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3DD4-1059-4DEE-B5D8-9D018B325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4229-FAC5-41B9-A172-29D03B36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5D85-5126-4356-8CF6-A12D91598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37EE-4F40-4C2E-BBE9-750EC9C53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16D7-1B4B-4E82-831A-C9D629964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AF6F-DE3D-4755-B93A-8CFC8BE0C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3FD0-C180-45B0-8F28-B4984076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71E5-5C5D-4615-877F-60FB2E64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2920-26AC-4425-92BB-6B9327A65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85C-23C3-487B-9A96-71ACEEEF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158-842B-430F-AED4-72C2B013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6FE-F2E0-4AD1-AF23-52253637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096C-CDEA-44BD-9566-2609DB49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365-2530-445B-AA00-C7E4C324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B533-875E-4EAD-8E7F-3C2493CC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A316-9B21-4CC0-873A-F6C47FE1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4AF4-CC31-4D4A-855F-94137037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D89-E63E-4D05-90B9-739074C6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7DEB-7CAA-436C-849E-D9982BB7A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sasearch.gov/" TargetMode="External"/><Relationship Id="rId2" Type="http://schemas.openxmlformats.org/officeDocument/2006/relationships/hyperlink" Target="http://www.photolib.noaa.gov/" TargetMode="External"/><Relationship Id="rId3" Type="http://schemas.openxmlformats.org/officeDocument/2006/relationships/hyperlink" Target="http://images.fws.gov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ata.nurp.noaa.gov/mmedia/NURP_mmsearch.asp" TargetMode="External"/><Relationship Id="rId2" Type="http://schemas.openxmlformats.org/officeDocument/2006/relationships/hyperlink" Target="http://www.pmel.noaa.gov/vents/geology/video_nemo01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S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0640" y="1238040"/>
            <a:ext cx="5448240" cy="30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ANG to you and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only the moon re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reckless free-hear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   free-throated rythm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moon remembers th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  And is kind to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794600" y="5813280"/>
            <a:ext cx="447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85480" y="441972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l Sand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819440" y="6167520"/>
            <a:ext cx="643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Sandburg used a now rare spelling of the wor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hyth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was commonly used in poetry and literature at one time.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81360" y="1218960"/>
            <a:ext cx="3581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g com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ittle cat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its look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harbor and c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ilent haunch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n moves 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748960" y="6095880"/>
            <a:ext cx="519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114080" y="45720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l Sand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2240" y="11890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NGLE clenched fist lifted and ready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 open asking hand held out and waiting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         Choos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we meet by one or the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824760" y="6114960"/>
            <a:ext cx="519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656880" y="327672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l Sand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te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95320" y="1200240"/>
            <a:ext cx="73152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whitelight flashes the frost to-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on of the purple and silent w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 me one of your lovers of dre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68400" y="6095880"/>
            <a:ext cx="600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525120" y="297180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l Sand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3440" y="190080"/>
            <a:ext cx="1218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81120" y="1219320"/>
            <a:ext cx="5943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, I am fi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ging under the ocean floo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hall never meet you, brother-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 years, anyhow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thousands of years, brother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I will warm you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d you close, wrap you in circl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you and change you-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 thousands of years, br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548720" y="6095880"/>
            <a:ext cx="519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rom Chicago Poems, New York: Henry Holt &amp; Company, 19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190400" y="4952880"/>
            <a:ext cx="21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l Sand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s for Im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usasearch.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hotolib.noaa.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ages.fws.g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s for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ata.nurp.noaa.gov/mmedia/NURP_mmsearch.as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mel.noaa.gov/vents/geology/video_nemo01.htm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ws.gov/video/broll.ht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open-video.org/index.ph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s for Aud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ws.gov/video/sound.ht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findsounds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artnersinrhyme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ididb.c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udio from 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ample audio came from the Clip Organizer in PowerPoint. In much the same way that you insert clip art, you can insert sounds from the Sound Clip Organiz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menu, choos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ies and Sou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from Clip Organizer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A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ask pane,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arch fo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xt entry box, type a catego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he sound that you want to h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2:46:56Z</dcterms:created>
  <dc:creator>Lezie</dc:creator>
  <dc:description>© 2005-2007 SchoolKiT.com Inc.
This template is a component of a SchoolKiT product and may only be used under license. For more information visit: www.schoolkit.com.</dc:description>
  <cp:keywords/>
  <dc:language>en-US</dc:language>
  <cp:lastModifiedBy>Lezie</cp:lastModifiedBy>
  <dcterms:modified xsi:type="dcterms:W3CDTF">2010-05-25T14:09:59Z</dcterms:modified>
  <cp:revision>5</cp:revision>
  <dc:subject>SchoolKiT</dc:subject>
  <dc:title>I Sang</dc:title>
</cp:coreProperties>
</file>